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113D-64BF-49B7-8DC8-265685C7AB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work in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A292-558E-403A-8BBA-61DAC4385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.5 to 2 hours: speaking warmer (15 mins); vocabulary (15 mins); reading (15 mins); speaking (15 mins); grammar review (15 - 30 mins); writing (15 -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D0C0-9DE0-488B-A815-16177F9B91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in pairs or groups and/or make lists, look up information from the Internet, present ideas to the class. The teacher can monitor and note down errors (especially with present continuous tense) for post-task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3327-87A8-4DE0-8EE9-848607DA2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words and definitions could be printed out and cut up for learners to m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183A2-D18C-4AAE-BD5E-DCCF1CEB21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now ask each other to explain the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B52A-743A-4B56-9195-27A683305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the original version of the text – if learners will get discouraged reading it, only allow a short time for them to look at the visuals at this stage – they will be able to understand it better after reading the easier english ver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10C6-31D5-438E-81A0-793E54EA47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print out and cut up the text and give one country project to each learner in the class, then get learners to mill and exchange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8F4D-4B07-4738-9E4C-98D2A6C2E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st of the examples are function b) – there are some future plans with function 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FBF0-99BF-4217-99AF-ECC97ABCCF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eck learners understand the form, meaning and phonology of the present continuo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57C2-D53A-4BAD-A5C5-CE852286CB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CCA1-922F-4440-9F34-D08BEB81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343A-0D43-4A28-8B7A-051FEEEF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AB8-A43C-4D32-B43B-9E5A0E1A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5DC-CD40-434D-A8C8-70C26ECF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10DD-FFCB-409A-A16A-A651CF6E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CCC-1BD1-4721-B447-A1EF6C95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D9ED-D39C-4DD7-9264-8DED482B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026D-F716-426B-896D-B2714D7D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D4F-1913-4458-A153-828A0944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C30E-28FA-4A10-A2D3-6558B5D5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62C-7441-49C2-B817-CD2663E3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C05-9366-4ABF-93F4-2713B81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AFA8-E993-4314-A103-EAB7BA03E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Protecting the planet from climate-chang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640" y="4365360"/>
            <a:ext cx="8064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8989"/>
                </a:solidFill>
                <a:latin typeface="Calibri"/>
              </a:rPr>
              <a:t>New Internationalist Easier English Ready Intermediate less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new internationalist logo black on white.jpg"/>
          <p:cNvPicPr/>
          <p:nvPr/>
        </p:nvPicPr>
        <p:blipFill>
          <a:blip r:embed="rId1"/>
          <a:stretch/>
        </p:blipFill>
        <p:spPr>
          <a:xfrm>
            <a:off x="3427560" y="476280"/>
            <a:ext cx="5730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Calibri"/>
              </a:rPr>
              <a:t>Make a poster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ll/show others what is happening around the world to protect the planet - maybe include pictures too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back at the original article and read it – it will seem much easier 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Program Files\Microsoft Office\MEDIA\CAGCAT10\j0335112.wmf"/>
          <p:cNvPicPr/>
          <p:nvPr/>
        </p:nvPicPr>
        <p:blipFill>
          <a:blip r:embed="rId1"/>
          <a:stretch/>
        </p:blipFill>
        <p:spPr>
          <a:xfrm>
            <a:off x="5219640" y="479736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599840"/>
            <a:ext cx="8785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 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to prepare for 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different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70c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bout what is happ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review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resent continu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po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b050"/>
                </a:solidFill>
                <a:latin typeface="Calibri"/>
              </a:rPr>
              <a:t>What is climate chang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00000"/>
                </a:solidFill>
                <a:latin typeface="Calibri"/>
              </a:rPr>
              <a:t>What can we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254061"/>
                </a:solidFill>
                <a:latin typeface="Calibri"/>
              </a:rPr>
              <a:t>What can governments around the world do about it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691920"/>
            <a:ext cx="266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) glacier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) to reflect 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3) power gen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5) flood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6) earthqua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8) microfinanc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1) amphibia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3) famine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4) biodiversity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340000" y="620640"/>
            <a:ext cx="662472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a) no food – people die because they can’t get foo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b)  to make something colde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c) all the different types of animals, plants and living things on eart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) when the earth moves for seconds or minutes and shakes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e) it makes electric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f) a big wall to keep water out (eg. to protect the land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g) a very big river of ic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) a big wall to keep water in (eg. in a lake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i) no water – people and animals can di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j) an animal that can live in water and on land eg. a fro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k) beautiful coloured rock in the sea near Austral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l) to make something return where it came from (eg. in a mi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) too much water everywhere from rain and rivers overflowi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n) a banking system where people borrow a small amount of mone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o) a very strong wind that can destroy building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24000" y="188640"/>
            <a:ext cx="43192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7030a0"/>
                </a:solidFill>
                <a:latin typeface="Calibri"/>
              </a:rPr>
              <a:t>KEY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glacier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g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2) to reflect back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3) power generator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e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4) to cool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b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5) flood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m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6) earthquake 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d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7) hurricane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o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alibri"/>
              </a:rPr>
              <a:t>8) microfinance   -</a:t>
            </a:r>
            <a:r>
              <a:rPr b="0" lang="en-GB" sz="3500" spc="-1" strike="noStrike">
                <a:solidFill>
                  <a:srgbClr val="0070c0"/>
                </a:solidFill>
                <a:latin typeface="Calibri"/>
              </a:rPr>
              <a:t>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188640"/>
            <a:ext cx="4500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9) dyke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f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0) dam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h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1) amphibian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j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2) drough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3) famine 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4) biodiversity -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5) coral reef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-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coral ree.jpg"/>
          <p:cNvPicPr/>
          <p:nvPr/>
        </p:nvPicPr>
        <p:blipFill>
          <a:blip r:embed="rId1"/>
          <a:stretch/>
        </p:blipFill>
        <p:spPr>
          <a:xfrm>
            <a:off x="6012000" y="5300640"/>
            <a:ext cx="20588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world and think about what’s happ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www.newint.org/features/2012/04/01/climate-change-adaptation-projects-map-world-countrie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&amp; 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and think : what’s happening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Protecting_the_planet_against_climate_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Practise: tell your partne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Speak: tell everyone els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Grammar review : present continuo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98064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3 main functions/meanings of this ten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mething happening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Look! It’s rai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something happening in the time around 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studying English this ye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a future arran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    </a:t>
            </a:r>
            <a:r>
              <a:rPr b="0" lang="en-GB" sz="2800" spc="-1" strike="noStrike">
                <a:solidFill>
                  <a:srgbClr val="00b050"/>
                </a:solidFill>
                <a:latin typeface="Calibri"/>
              </a:rPr>
              <a:t>I’m playing football next Monday at 5p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030a0"/>
                </a:solidFill>
                <a:latin typeface="Calibri"/>
              </a:rPr>
              <a:t>Look at the text and find and underline all the example of the present continuous. Which function are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ammar pract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pairs, write at least one present continuous sentence about what is happening in each country in the tex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g. In Canada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they are warn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about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the US, </a:t>
            </a: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people are pain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roofs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13:41:19Z</dcterms:created>
  <dc:creator>IT Technical Support</dc:creator>
  <dc:description/>
  <dc:language>en-US</dc:language>
  <cp:lastModifiedBy>Mix</cp:lastModifiedBy>
  <dcterms:modified xsi:type="dcterms:W3CDTF">2012-10-28T17:10:01Z</dcterms:modified>
  <cp:revision>27</cp:revision>
  <dc:subject/>
  <dc:title>Protecting the planet from climate-change</dc:title>
</cp:coreProperties>
</file>